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whoosh.wav" ContentType="audio/x-wav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26F8-93A7-49D0-9368-6DA95CC6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D87-ECCA-4A14-AA01-2EE187F0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D54-28B5-4551-BD0A-317AC7C5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BEB7-90A3-463F-80B2-4DF71F32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A8D-1CC5-44B4-B270-BD9F0877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DBE6-6E93-4FB4-8F6F-B71757B4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971-9477-4AA7-AAC0-2F63F74A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329-E79D-461E-8FD4-E4C9A5D5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F4A-1393-42B8-879A-43A4D7B4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1C5-51E1-48C6-B548-1FC95268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E1D4-1C46-4F76-ACBA-D8900505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B68-28D7-4A50-B3DE-7124F85D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2F84-67F0-4B40-A61A-07738B5E8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anheller.com/images/Africa/Mali/Timbuktu/Slideshow/img2.html" TargetMode="External"/><Relationship Id="rId2" Type="http://schemas.openxmlformats.org/officeDocument/2006/relationships/image" Target="../media/image7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38280" y="1752480"/>
            <a:ext cx="41148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Lego"/>
              </a:rPr>
              <a:t>Mans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3300"/>
                </a:solidFill>
                <a:latin typeface="Lego"/>
              </a:rPr>
              <a:t>Mus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Lego"/>
              </a:rPr>
              <a:t>Mansa Mu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Was related to Sund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Built mos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Built univer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Made Timbuktu a center of learning and wo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Made a hajj to Mec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Destroyed the economy of Egy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Lego"/>
              </a:rPr>
              <a:t>The Most Important Thing Mansa Musa Did Was…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Lego"/>
              </a:rPr>
              <a:t>Put Mali on the ma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That means he let the rest of the world know that Mali was a great and wealthy emp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Lego"/>
              </a:rPr>
              <a:t>Mansa Mu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Lego"/>
              </a:rPr>
              <a:t>Mansa Musa was the greatest king in Mali’s hi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Lego"/>
              </a:rPr>
              <a:t>He was the grandson or the grandnephew of Sundi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Lego"/>
              </a:rPr>
              <a:t>Mansa Musa put Mali on the m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2529000"/>
            <a:ext cx="3809880" cy="3017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Lego"/>
              </a:rPr>
              <a:t>Isl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Mansa Musa was a strict follower of Isl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Followers of Islam should make a hajj, or religious journey, to Mec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Mecca is the holy city for the followers of Isl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Lego"/>
              </a:rPr>
              <a:t>From Mali to Mec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349600" cy="3679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Lego"/>
              </a:rPr>
              <a:t>Mansa Musa’ Hajj to Mec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Mansa Musa went through Egy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He gave away so much gold, he ruined the economy of Egypt for ten yea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78400" y="4191120"/>
            <a:ext cx="1793880" cy="2361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66680" y="4952880"/>
            <a:ext cx="1778040" cy="912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095880" y="4952880"/>
            <a:ext cx="1778040" cy="912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Lego"/>
              </a:rPr>
              <a:t>Mec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Lego"/>
              </a:rPr>
              <a:t>This is the mosque Mansa Musa visit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Lego"/>
              </a:rPr>
              <a:t>People still go to Mecca to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4038840" cy="2287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Lego"/>
              </a:rPr>
              <a:t>The Return Ho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Mansa Musa brought scholars back with him from Mecca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These were men who became teachers.</a:t>
            </a:r>
            <a:r>
              <a:rPr b="0" lang="en-US" sz="2400" spc="-1" strike="noStrike">
                <a:solidFill>
                  <a:srgbClr val="ffffcc"/>
                </a:solidFill>
                <a:latin typeface="Lego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Mansa Musa brought a famous Spanish architect back als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Lego"/>
              </a:rPr>
              <a:t>An architect designs buil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Lego"/>
              </a:rPr>
              <a:t>Timbuktu- center of wo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05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Lego"/>
              </a:rPr>
              <a:t>Mansa Musa built a beautiful mosque in Timbukt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Lego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Lego"/>
              </a:rPr>
              <a:t>Many people worshipped the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Lego"/>
              </a:rPr>
              <a:t>The mosque was made of m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0840" y="23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Click for Larg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0"/>
            <a:ext cx="4495680" cy="3048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Lego"/>
              </a:rPr>
              <a:t>Timbuktu- center of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Lego"/>
              </a:rPr>
              <a:t>Mansa Musa built three universities in Timbuk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Le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Lego"/>
              </a:rPr>
              <a:t>There were many ancient Grecian and Roman books in the libra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93760" y="1981080"/>
            <a:ext cx="279396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2:15:01Z</dcterms:created>
  <dc:creator>Anne Craighead</dc:creator>
  <dc:description/>
  <dc:language>en-US</dc:language>
  <cp:lastModifiedBy>johndegaspe</cp:lastModifiedBy>
  <dcterms:modified xsi:type="dcterms:W3CDTF">2012-03-01T17:11:59Z</dcterms:modified>
  <cp:revision>9</cp:revision>
  <dc:subject/>
  <dc:title>PowerPoint Presentation</dc:title>
</cp:coreProperties>
</file>